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57B-8C83-4CC2-930C-93B0C51F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1BF-F344-4CC8-B0ED-2124504D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652-F8D0-4CA3-A904-20928F46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E56-1420-44D4-983D-F004288F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F0A-EFE3-4713-AB02-960D15E4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8A9-B417-4A7D-B6DD-D459506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9E4-1F16-4F6B-BD62-4B9A5113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1FF-07CB-4C89-9FB3-183AF6A5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BE9-2B08-4318-AA17-352F6657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9CC-6F5A-428B-A87F-4262A51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208-28F7-4737-B7FB-98BFECFA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164-6B92-4588-81B1-AD411FF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CFA3-4903-4C55-9C7E-2832AE71E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1880" y="77004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160" y="1633680"/>
            <a:ext cx="1955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78600" y="4297320"/>
            <a:ext cx="1593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9640" y="746280"/>
            <a:ext cx="1193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13000" y="2441520"/>
            <a:ext cx="140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54240" y="4297320"/>
            <a:ext cx="1593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4240" y="1633680"/>
            <a:ext cx="1536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51040" y="3174840"/>
            <a:ext cx="1498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240" y="3505320"/>
            <a:ext cx="1231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3280" y="1336680"/>
            <a:ext cx="140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94280" y="2813040"/>
            <a:ext cx="1803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5600" y="412920"/>
            <a:ext cx="1536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onz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3880" y="1936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you write these numbers in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6240" y="50896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you start at 12 and go backwar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6800" y="458640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3880" y="350532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520" y="422604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3880" y="27860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3880" y="314496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5520" y="386568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160" y="1704960"/>
            <a:ext cx="15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160" y="242568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160" y="1273320"/>
            <a:ext cx="12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160" y="20653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9520" y="554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160" y="912960"/>
            <a:ext cx="15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36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d you write the  numbers in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6240" y="5089680"/>
            <a:ext cx="61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14:21Z</dcterms:created>
  <dc:creator>Helen</dc:creator>
  <dc:description/>
  <dc:language>en-US</dc:language>
  <cp:lastModifiedBy>Helen</cp:lastModifiedBy>
  <dcterms:modified xsi:type="dcterms:W3CDTF">2010-05-22T13:18:19Z</dcterms:modified>
  <cp:revision>2</cp:revision>
  <dc:subject/>
  <dc:title>Slide 1</dc:title>
</cp:coreProperties>
</file>